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5D9-F111-4909-93FF-6405CB32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1A43-4E58-46F3-A5A7-BE9BDC81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8E9A-9C37-4646-B120-4CD721E6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8FE-0A01-474E-BE46-39F4314A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AC3B-D96A-4B57-857F-D554BFA2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2804-E31D-48BE-9488-6357473A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A079-4141-4EF3-A16D-2728CF46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1468-07A0-4B9E-9E9E-F30012F2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AF41-14F8-45DC-99A7-B372421D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3B0C-3DF3-4AC5-B237-213DAE4A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14AB-844D-4153-B0EA-0C1CA197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1C4-301F-4DCF-B26F-8E8B4209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22D3-0BB1-4A19-AD5C-4B8F19BA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E99A-AFBB-4E6A-B6DC-D2D7851D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39A0-415D-4F18-B308-7A1D53FA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13A2-1149-4446-A67C-599BBD24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ECAD-006F-4C53-BF5F-E348EAAE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5416E-4A68-41E9-BC37-5B437581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FE878-FACC-4366-B4F2-93265316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A08A2-E515-4282-B65B-FCA11F23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A0300-23CF-4D69-85D9-5797EEB5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7621A-1874-4882-B44B-D6A0B17E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42A-BDF0-434E-B577-428DD213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53E78-85AB-4B2C-8CD9-124DF290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6D241-0423-44E3-9222-53F5A17C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2E4B8-CFAE-4354-913F-D15F09CD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571D8-A970-4F15-B259-D99D9992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DC901-503F-46AC-9306-3CB012AD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A0FCA-9305-4127-AD4E-AFD043DB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28CC8-C15F-4901-A380-46D2E573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4CA97-C243-4A2B-9C80-7F9A4679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28818-F682-4A04-8B0D-E72F829F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9165E-A8B3-4D4C-BF80-4361D0F7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DC6-1A16-4975-A843-BADFD7A7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386A6-5632-434E-BBCB-7CF2C7BA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6AE9A-EED6-4953-B208-AFAF3A0E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9B578-3507-42DB-A816-D4E59F65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60101-ECDC-4E1A-A11E-088D317A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E8477-77AB-44BF-99EC-DE87F28A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D0A0C-CEB5-4F4E-85B7-1188B098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086AA-12C9-4811-886D-2599CC39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CA3B0-31EF-46A8-BD79-CED1C761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0240C-5F9A-4382-91FA-F5E9171B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A7FE-1B3E-4B37-BA16-C34BB57B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94C-F79B-4702-830C-6ED0D07F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305-80B4-4388-87FF-4D11F008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B07-F906-4B76-9206-1C80C33D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5FDF-8524-4C15-A418-FB458D1C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23BD-C223-44C2-B48A-E977323ECF2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C6DD-436A-4680-BF26-A288B09A4959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E02C-0697-40A7-A366-CB4B81E3FA0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AE0D-54DF-477A-A979-5701A08C3D5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ГРАЖДАНСКИЙ БЮДЖЕТ 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на 2019–2021 годы</a:t>
            </a:r>
            <a:br>
              <a:rPr sz="5400"/>
            </a:b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0000cc"/>
                </a:solidFill>
                <a:latin typeface="Trebuchet MS"/>
              </a:rPr>
              <a:t>уточненный на 15 ноября</a:t>
            </a: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)</a:t>
            </a:r>
            <a:br>
              <a:rPr sz="3600"/>
            </a:b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Рисунок 6" descr="logoМЭРТ.gif"/>
          <p:cNvPicPr/>
          <p:nvPr/>
        </p:nvPicPr>
        <p:blipFill>
          <a:blip r:embed="rId1"/>
          <a:stretch/>
        </p:blipFill>
        <p:spPr>
          <a:xfrm>
            <a:off x="7315200" y="298440"/>
            <a:ext cx="160956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4191120" y="6605640"/>
            <a:ext cx="182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99A5-BD1F-494C-BD3A-950967A905E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48080" y="123840"/>
            <a:ext cx="531504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Расходы на реализацию мероприятий</a:t>
            </a: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 в сфере здравоохранения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676520"/>
          <a:ext cx="8763120" cy="3886200"/>
        </p:xfrm>
        <a:graphic>
          <a:graphicData uri="http://schemas.openxmlformats.org/drawingml/2006/table">
            <a:tbl>
              <a:tblPr/>
              <a:tblGrid>
                <a:gridCol w="5114880"/>
                <a:gridCol w="1328760"/>
                <a:gridCol w="1187640"/>
                <a:gridCol w="1131840"/>
              </a:tblGrid>
              <a:tr h="264960">
                <a:tc gridSpan="4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млн. тенг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 год 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ноз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ходы на здравоохранение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 аппаратом управл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8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рана здоровья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ециализированная медицинск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виды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услуги в области здравоо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7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76" descr=""/>
          <p:cNvPicPr/>
          <p:nvPr/>
        </p:nvPicPr>
        <p:blipFill>
          <a:blip r:embed="rId1"/>
          <a:stretch/>
        </p:blipFill>
        <p:spPr>
          <a:xfrm>
            <a:off x="0" y="0"/>
            <a:ext cx="153036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7" descr=""/>
          <p:cNvPicPr/>
          <p:nvPr/>
        </p:nvPicPr>
        <p:blipFill>
          <a:blip r:embed="rId2"/>
          <a:stretch/>
        </p:blipFill>
        <p:spPr>
          <a:xfrm>
            <a:off x="1914480" y="28440"/>
            <a:ext cx="152388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762120" y="6324480"/>
            <a:ext cx="769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9080" y="838080"/>
          <a:ext cx="8839080" cy="520884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3479760"/>
                <a:gridCol w="1505160"/>
                <a:gridCol w="1365120"/>
                <a:gridCol w="1365120"/>
              </a:tblGrid>
              <a:tr h="1573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здравоохранения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813 93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 4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 96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реализации государственной политики на местном уровне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674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15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95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охране материнства и де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18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7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5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аганда здорового образа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профилактике и борьбе со СПИД в Республике 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38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граждан бесплатным или льготным проездом за пределы населенного пункта на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7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аналитические услуги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9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нтрализованный закуп и хранение вакцин и других медицинских иммунобиологических препаратов для проведения иммунопрофилактики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51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37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59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стные базы спецмедснаб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06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11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е расходы медицинских организаций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36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олнительное обеспечение гарантированного объема бесплатной медицинской помощи по решению местных представительных органов обла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24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455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664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медицинской организацией мероприятий, снижающих половое влечение, осуществляемые на основании решения с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в организациях технического и профессионального, послесредне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77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7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54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Заголовок 2" descr=""/>
          <p:cNvPicPr/>
          <p:nvPr/>
        </p:nvPicPr>
        <p:blipFill>
          <a:blip r:embed="rId1"/>
          <a:stretch/>
        </p:blipFill>
        <p:spPr>
          <a:xfrm>
            <a:off x="384120" y="158760"/>
            <a:ext cx="8326440" cy="86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76320" y="838080"/>
          <a:ext cx="8781840" cy="2659320"/>
        </p:xfrm>
        <a:graphic>
          <a:graphicData uri="http://schemas.openxmlformats.org/drawingml/2006/table">
            <a:tbl>
              <a:tblPr/>
              <a:tblGrid>
                <a:gridCol w="50472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ышение квалификации и переподготовка кад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6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с высшим, послевузовским образованием и оказание социальной поддержки обучающим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25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94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социальной и инженерной инфраструктуре в сельских населенных пунктах в рамках проекта «Ауыл-Ел бесігі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48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полнение государственных обязательств по проектам государственно-частного партн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05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22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3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384120" y="195120"/>
            <a:ext cx="8229600" cy="6462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Таблица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6868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Kapkenova</cp:lastModifiedBy>
  <cp:lastPrinted>2019-11-15T04:29:59Z</cp:lastPrinted>
  <dcterms:modified xsi:type="dcterms:W3CDTF">2019-11-15T05:52:32Z</dcterms:modified>
  <cp:revision>7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