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464A-A800-486C-8472-5A31B0309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7175-FCC9-4726-AAF6-F39390272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0D79-23DD-480C-AC22-DC26F3403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F5C0-FB1E-407E-BE9A-590973814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ED647-C10E-4BC0-9E6A-8775B3B42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84C20-2BBA-45C9-A1A6-E847E7A4B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7D7BA-846C-4E22-A224-DC597D9E9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28472-7555-491B-9A1B-01BC36CF2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91D9A-138F-4A16-8D30-622723DB9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38735-BC89-403D-A46D-1FF86184C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516DD-E765-458F-9078-D82EB31E0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EBE9-1B58-480F-B81D-2765F6154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9C92B-C46E-4708-B4F7-A64CACCB5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FAE59-B39B-4139-99A6-D543B68A6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AEE4F-46C7-4437-A007-32402C40A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62CFD-40E4-40CA-B1A8-DB3254E36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98958-4701-4697-8794-1974A5CED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68A86-3D9E-4671-BB25-14BF7BF74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D4CD3-43A2-455C-92B0-A4F0D3004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4D1C5-0B30-44F3-905E-190857E38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3EF94-8A51-438B-A181-FFB6C3F2E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529E6-B988-44F4-8AF5-6E2D6C52C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CED7-3FAB-4DE1-934E-D6410A7DE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9B33E-27F1-4F2E-A7E1-ACAA7EC63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67DE2-D31C-49C6-A5AB-992124D55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64A68-EBF7-4181-9621-D195E1548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99BF5-C2BC-4995-8194-203CDD806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8D24F-A36D-4CC2-BE31-51A2E197C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69F43-9D7D-4C48-B977-F8251D43D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54829-6387-4CF7-9FB5-D6BBFB784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903D6-416F-4B1E-9E84-397F471C6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C5431-8BB7-437E-99D1-0CD8F1BF3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C00CB-BBA2-48D3-B859-3ADAB46AD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4104-2333-4453-9DE9-AC5ECED8A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0D938-F9D9-497E-9B2A-251CBF176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E2DDC-572C-4B47-9505-DEEED49F7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26A0A-539F-4BC3-846D-1D18B2BD5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7064B-C25F-4AD0-9D6D-20F9FF266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D5E68-5EBD-4B49-BF15-DAFE17C01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F8C7F-A72D-4CC1-A6D0-C5293C831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0ED35-A78E-4553-9D7E-3943F6566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147E7-CA9B-4F8F-92C5-99F3BF9FB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61BD2-1869-4CBB-AE34-29061D8ED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2479-07CD-4B63-A1F8-ADEC3F580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638D-E0D5-45D0-8EF4-01882BBD4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BB28-D1E7-408D-ABF8-44028A2FD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B60C-5ACB-4F1C-AB77-4F492C155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19DD-8E1A-409E-8319-5E0D94576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AFBA4-75EC-41C7-B1CD-7A9E6A33BC96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2048F-3471-42AD-BA70-24F1C6318786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3CDD4-DCA3-4BE8-942D-BCD3A951D72E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B91E7-4962-4D01-BAA1-3DA79EF9C2D3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1599840"/>
            <a:ext cx="8686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cc"/>
                </a:solidFill>
                <a:latin typeface="Trebuchet MS"/>
              </a:rPr>
              <a:t>ГРАЖДАНСКИЙ БЮДЖЕТ </a:t>
            </a:r>
            <a:br>
              <a:rPr sz="5400"/>
            </a:br>
            <a:r>
              <a:rPr b="1" lang="ru-RU" sz="5400" spc="-1" strike="noStrike">
                <a:solidFill>
                  <a:srgbClr val="0000cc"/>
                </a:solidFill>
                <a:latin typeface="Trebuchet MS"/>
              </a:rPr>
              <a:t>на 2019–2021 годы</a:t>
            </a:r>
            <a:br>
              <a:rPr sz="5400"/>
            </a:br>
            <a:r>
              <a:rPr b="1" lang="ru-RU" sz="3200" spc="-1" strike="noStrike">
                <a:solidFill>
                  <a:srgbClr val="0000cc"/>
                </a:solidFill>
                <a:latin typeface="Trebuchet MS"/>
              </a:rPr>
              <a:t>(</a:t>
            </a:r>
            <a:r>
              <a:rPr b="1" lang="ru-RU" sz="3600" spc="-1" strike="noStrike">
                <a:solidFill>
                  <a:srgbClr val="0000cc"/>
                </a:solidFill>
                <a:latin typeface="Trebuchet MS"/>
              </a:rPr>
              <a:t>уточненный на 15 ноября</a:t>
            </a:r>
            <a:r>
              <a:rPr b="1" lang="ru-RU" sz="3200" spc="-1" strike="noStrike">
                <a:solidFill>
                  <a:srgbClr val="0000cc"/>
                </a:solidFill>
                <a:latin typeface="Trebuchet MS"/>
              </a:rPr>
              <a:t>)</a:t>
            </a:r>
            <a:br>
              <a:rPr sz="3600"/>
            </a:b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Рисунок 6" descr="logoМЭРТ.gif"/>
          <p:cNvPicPr/>
          <p:nvPr/>
        </p:nvPicPr>
        <p:blipFill>
          <a:blip r:embed="rId1"/>
          <a:stretch/>
        </p:blipFill>
        <p:spPr>
          <a:xfrm>
            <a:off x="7315200" y="298440"/>
            <a:ext cx="1609560" cy="106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Номер слайда 5"/>
          <p:cNvSpPr/>
          <p:nvPr/>
        </p:nvSpPr>
        <p:spPr>
          <a:xfrm>
            <a:off x="4191120" y="6605640"/>
            <a:ext cx="18288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46FA8-83BA-43B6-B820-54DB63FCB7C5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448080" y="123840"/>
            <a:ext cx="5315040" cy="110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cc"/>
                </a:solidFill>
                <a:latin typeface="Trebuchet MS"/>
              </a:rPr>
              <a:t>Расходы на реализацию мероприятий</a:t>
            </a:r>
            <a:br>
              <a:rPr sz="2200"/>
            </a:br>
            <a:r>
              <a:rPr b="1" lang="ru-RU" sz="2200" spc="-1" strike="noStrike">
                <a:solidFill>
                  <a:srgbClr val="0033cc"/>
                </a:solidFill>
                <a:latin typeface="Trebuchet MS"/>
              </a:rPr>
              <a:t> в сфере здравоохранения</a:t>
            </a:r>
            <a:endParaRPr b="1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228600" y="1676520"/>
          <a:ext cx="8763120" cy="3886200"/>
        </p:xfrm>
        <a:graphic>
          <a:graphicData uri="http://schemas.openxmlformats.org/drawingml/2006/table">
            <a:tbl>
              <a:tblPr/>
              <a:tblGrid>
                <a:gridCol w="5114880"/>
                <a:gridCol w="1328760"/>
                <a:gridCol w="1187640"/>
                <a:gridCol w="1131840"/>
              </a:tblGrid>
              <a:tr h="264960">
                <a:tc gridSpan="4"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33cc"/>
                          </a:solidFill>
                          <a:latin typeface="Trebuchet MS"/>
                        </a:rPr>
                        <a:t>млн. тенг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6920">
                <a:tc row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eb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9 год  пла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ebfa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гноз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eb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твержден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eb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20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eb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21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ebfa"/>
                    </a:solidFill>
                  </a:tcPr>
                </a:tc>
              </a:tr>
              <a:tr h="5047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асходы на здравоохранение -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с аппаратом управлен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 81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17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555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храна здоровья насе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67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52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76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пециализированная медицинская помощ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5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0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7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ругие виды медицинской помощ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чие услуги в области здравоохра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74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9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3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7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ч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3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40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6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9" name="Picture 76" descr=""/>
          <p:cNvPicPr/>
          <p:nvPr/>
        </p:nvPicPr>
        <p:blipFill>
          <a:blip r:embed="rId1"/>
          <a:stretch/>
        </p:blipFill>
        <p:spPr>
          <a:xfrm>
            <a:off x="0" y="0"/>
            <a:ext cx="1530360" cy="13716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7" descr=""/>
          <p:cNvPicPr/>
          <p:nvPr/>
        </p:nvPicPr>
        <p:blipFill>
          <a:blip r:embed="rId2"/>
          <a:stretch/>
        </p:blipFill>
        <p:spPr>
          <a:xfrm>
            <a:off x="1914480" y="28440"/>
            <a:ext cx="1523880" cy="1343160"/>
          </a:xfrm>
          <a:prstGeom prst="rect">
            <a:avLst/>
          </a:prstGeom>
          <a:ln w="0">
            <a:noFill/>
          </a:ln>
        </p:spPr>
      </p:pic>
      <p:sp>
        <p:nvSpPr>
          <p:cNvPr id="221" name="Прямоугольник 6"/>
          <p:cNvSpPr/>
          <p:nvPr/>
        </p:nvSpPr>
        <p:spPr>
          <a:xfrm>
            <a:off x="762120" y="6324480"/>
            <a:ext cx="7696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римечание: прогноз на 2020-2021 годы – без учета целевых трансфертов из республиканского бюджет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19080" y="838080"/>
          <a:ext cx="8839080" cy="5208840"/>
        </p:xfrm>
        <a:graphic>
          <a:graphicData uri="http://schemas.openxmlformats.org/drawingml/2006/table">
            <a:tbl>
              <a:tblPr/>
              <a:tblGrid>
                <a:gridCol w="561960"/>
                <a:gridCol w="561960"/>
                <a:gridCol w="3479760"/>
                <a:gridCol w="1505160"/>
                <a:gridCol w="1365120"/>
                <a:gridCol w="1365120"/>
              </a:tblGrid>
              <a:tr h="15732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19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20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21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88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правление здравоохранения обла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 813 937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171 487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555 964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слуги по реализации государственной политики на местном уровне в области здравоохра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6748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7152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9951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слуги по охране материнства и детств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189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7787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952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паганда здорового образа жиз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00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еализация мероприятий по профилактике и борьбе со СПИД в Республике Казахста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238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7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71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еспечение граждан бесплатным или льготным проездом за пределы населенного пункта на леч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672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87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14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нформационно-аналитические услуги в области здравоохра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1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291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02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Централизованный закуп и хранение вакцин и других медицинских иммунобиологических препаратов для проведения иммунопрофилактики насел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517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037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759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ластные базы спецмедснабж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06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23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119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апитальные расходы медицинских организаций здравоохра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73688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ополнительное обеспечение гарантированного объема бесплатной медицинской помощи по решению местных представительных органов област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2402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74559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664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ведение медицинской организацией мероприятий, снижающих половое влечение, осуществляемые на основании решения су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24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дготовка специалистов в организациях технического и профессионального, послесреднего образов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771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876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541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3" name="Заголовок 2" descr=""/>
          <p:cNvPicPr/>
          <p:nvPr/>
        </p:nvPicPr>
        <p:blipFill>
          <a:blip r:embed="rId1"/>
          <a:stretch/>
        </p:blipFill>
        <p:spPr>
          <a:xfrm>
            <a:off x="384120" y="158760"/>
            <a:ext cx="8326440" cy="865080"/>
          </a:xfrm>
          <a:prstGeom prst="rect">
            <a:avLst/>
          </a:prstGeom>
          <a:ln w="0">
            <a:noFill/>
          </a:ln>
        </p:spPr>
      </p:pic>
      <p:sp>
        <p:nvSpPr>
          <p:cNvPr id="224" name="Прямоугольник 1"/>
          <p:cNvSpPr/>
          <p:nvPr/>
        </p:nvSpPr>
        <p:spPr>
          <a:xfrm>
            <a:off x="457200" y="6100920"/>
            <a:ext cx="8305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римечание: прогноз на 2020-2021 годы – без учета целевых трансфертов из республиканского бюджет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76320" y="838080"/>
          <a:ext cx="8781840" cy="2659320"/>
        </p:xfrm>
        <a:graphic>
          <a:graphicData uri="http://schemas.openxmlformats.org/drawingml/2006/table">
            <a:tbl>
              <a:tblPr/>
              <a:tblGrid>
                <a:gridCol w="504720"/>
                <a:gridCol w="561960"/>
                <a:gridCol w="3479760"/>
                <a:gridCol w="1505160"/>
                <a:gridCol w="1365120"/>
                <a:gridCol w="1365120"/>
              </a:tblGrid>
              <a:tr h="22860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19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20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21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вышение квалификации и переподготовка кадр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3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88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67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дготовка специалистов с высшим, послевузовским образованием и оказание социальной поддержки обучающимс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7634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2257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7948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еализация мероприятий по социальной и инженерной инфраструктуре в сельских населенных пунктах в рамках проекта «Ауыл-Ел бесігі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4484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ыполнение государственных обязательств по проектам государственно-частного партнерств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8053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40228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631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6" name="Заголовок 2" descr=""/>
          <p:cNvPicPr/>
          <p:nvPr/>
        </p:nvPicPr>
        <p:blipFill>
          <a:blip r:embed="rId1"/>
          <a:stretch/>
        </p:blipFill>
        <p:spPr>
          <a:xfrm>
            <a:off x="384120" y="195120"/>
            <a:ext cx="8229600" cy="646200"/>
          </a:xfrm>
          <a:prstGeom prst="rect">
            <a:avLst/>
          </a:prstGeom>
          <a:ln w="0">
            <a:noFill/>
          </a:ln>
        </p:spPr>
      </p:pic>
      <p:sp>
        <p:nvSpPr>
          <p:cNvPr id="227" name="Прямоугольник 1"/>
          <p:cNvSpPr/>
          <p:nvPr/>
        </p:nvSpPr>
        <p:spPr>
          <a:xfrm>
            <a:off x="457200" y="6100920"/>
            <a:ext cx="8305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римечание: прогноз на 2020-2021 годы – без учета целевых трансфертов из республиканского бюджет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Таблица 3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8686800" cy="60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льфия Ф. Садыкова</dc:creator>
  <dc:description/>
  <dc:language>en-US</dc:language>
  <cp:lastModifiedBy>Kapkenova</cp:lastModifiedBy>
  <cp:lastPrinted>2019-11-15T04:29:59Z</cp:lastPrinted>
  <dcterms:modified xsi:type="dcterms:W3CDTF">2019-11-15T05:52:32Z</dcterms:modified>
  <cp:revision>7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