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36FF-28A3-4C1B-968C-3611D072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358-AD3B-4456-86FE-0D96CD5D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67CF-BAC2-41DA-AA69-A88CA3AD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E54-D073-4FAB-A1EE-D91E429F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7912-FA40-4C0A-8F15-BDA88190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8FA3-1E9C-4966-A32F-771C4C32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E2E7-9BBF-4B3D-9A96-313DFBFB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68DA-7AC1-41A5-A415-67CEC5C7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5F31-2BC2-433F-A041-01620FC5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658D-E420-4525-B4F4-FEAE401C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CDF5-327E-47F7-88AC-722EFE43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FDC-E34D-493E-855F-ED2A4001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F564-82F6-4B96-B9E4-58CE82CF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E28C-FEEA-41E2-B933-B416974E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D275-9354-496D-9F9D-2DB98D3B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5018-3702-47B2-88BA-1E7D4008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BCCC-4AB7-45D5-8E4B-23E24B09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DC4BB-B57F-48A7-91E0-9E5CD4DF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B8F06-8E56-4949-BAFA-9518A4A5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35007-64DA-4B53-B5EB-C1D7C8D0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EE0EB-BE41-4467-BF59-9A956C4D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7DBC3-F823-4AE9-8864-E45AC2BB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03C-3590-41D4-9251-7115488C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72B84-1CCB-4FDB-9B32-9AECF2D3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7FF76-AD74-4071-BB46-6D80DA6B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853F1-3974-4ECC-803E-73735F2B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ADC27-9B5F-494C-A2FC-B71F9A1F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965B7-90C8-45F1-862E-81C91712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18A95-B0D8-4C8F-A1A5-1A2461A5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AE41F-1DB7-4A22-B300-07866689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D4F75-CBEB-4D48-BF48-C61EE137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3C167-2988-4B86-8494-FCD50402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BE002-A423-4A46-B6F3-D0F7AEF1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787-BF68-4F5F-A397-AE04128D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EF46E-C81F-46BD-9A63-BF78BC37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6FB09-049B-4A0F-A5D1-3ABC9093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3632D-00F9-4211-BA4B-9F9E313C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10D21-3FB1-4AFE-A7F2-1C603CA6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ED91F-2E68-4BBF-A7FF-BC9FF728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1B420-EA1A-4E43-8911-0024288F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939DE-188F-4798-9D85-9B89D309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1646D-7DCB-44B0-8518-725FBE9E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10DF6-29E3-4A16-840E-CF7833FC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14F-1847-4CFC-8545-C704E309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3429-EAA0-48AD-8476-BEFCF351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804-0A23-43B9-B83F-10532535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FFC-1829-42AD-ABBE-DF557AC9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C43-E333-4BA1-AE40-D054FACC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A2D5-66A9-4E38-9016-04805C7BBE1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EC3E-908B-4BD0-9029-D019E1CC0A3F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8720-1017-427A-81E7-BDA58AAA0E4F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468A-6677-43BB-8BFC-D468F653266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ГРАЖДАНСКИЙ БЮДЖЕТ 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на 2019–2021 годы</a:t>
            </a:r>
            <a:br>
              <a:rPr sz="5400"/>
            </a:b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0000cc"/>
                </a:solidFill>
                <a:latin typeface="Trebuchet MS"/>
              </a:rPr>
              <a:t>уточненный на 15 ноября</a:t>
            </a: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)</a:t>
            </a:r>
            <a:br>
              <a:rPr sz="3600"/>
            </a:b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Рисунок 6" descr="logoМЭРТ.gif"/>
          <p:cNvPicPr/>
          <p:nvPr/>
        </p:nvPicPr>
        <p:blipFill>
          <a:blip r:embed="rId1"/>
          <a:stretch/>
        </p:blipFill>
        <p:spPr>
          <a:xfrm>
            <a:off x="7315200" y="298440"/>
            <a:ext cx="160956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4191120" y="6605640"/>
            <a:ext cx="18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BFE1-F2B5-4B4F-9C4E-3A3F71A57E9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48080" y="123840"/>
            <a:ext cx="531504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Расходы на реализацию мероприятий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 в сфере здравоохранения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763120" cy="3886200"/>
        </p:xfrm>
        <a:graphic>
          <a:graphicData uri="http://schemas.openxmlformats.org/drawingml/2006/table">
            <a:tbl>
              <a:tblPr/>
              <a:tblGrid>
                <a:gridCol w="5114880"/>
                <a:gridCol w="1328760"/>
                <a:gridCol w="1187640"/>
                <a:gridCol w="1131840"/>
              </a:tblGrid>
              <a:tr h="264960">
                <a:tc gridSpan="4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млн. тенг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 год 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ноз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ходы на здравоохранение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 аппаратом управл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8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рана здоровь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ециализированная медицинск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виды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услуги в области 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7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76" descr=""/>
          <p:cNvPicPr/>
          <p:nvPr/>
        </p:nvPicPr>
        <p:blipFill>
          <a:blip r:embed="rId1"/>
          <a:stretch/>
        </p:blipFill>
        <p:spPr>
          <a:xfrm>
            <a:off x="0" y="0"/>
            <a:ext cx="153036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7" descr=""/>
          <p:cNvPicPr/>
          <p:nvPr/>
        </p:nvPicPr>
        <p:blipFill>
          <a:blip r:embed="rId2"/>
          <a:stretch/>
        </p:blipFill>
        <p:spPr>
          <a:xfrm>
            <a:off x="1914480" y="28440"/>
            <a:ext cx="152388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762120" y="6324480"/>
            <a:ext cx="769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9080" y="838080"/>
          <a:ext cx="8839080" cy="520884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3479760"/>
                <a:gridCol w="1505160"/>
                <a:gridCol w="1365120"/>
                <a:gridCol w="1365120"/>
              </a:tblGrid>
              <a:tr h="1573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здравоохранения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813 93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 4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 9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реализации государственной политики на местном уровне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67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15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95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охране материнства и де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18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7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5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аганда здорового образа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профилактике и борьбе со СПИД в Республике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3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граждан бесплатным или льготным проездом за пределы населенного пункта на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7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аналитические услуги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9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нтрализованный закуп и хранение вакцин и других медицинских иммунобиологических препаратов для проведения иммунопрофилактики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51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37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59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стные базы спецмедснаб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06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1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е расходы медицинских организаций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36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олнительное обеспечение гарантированного объема бесплатной медицинской помощи по решению местных представительных органов обла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24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455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66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медицинской организацией мероприятий, снижающих половое влечение, осуществляемые на основании решения с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в организациях технического и профессионального, послесредне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77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7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54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Заголовок 2" descr=""/>
          <p:cNvPicPr/>
          <p:nvPr/>
        </p:nvPicPr>
        <p:blipFill>
          <a:blip r:embed="rId1"/>
          <a:stretch/>
        </p:blipFill>
        <p:spPr>
          <a:xfrm>
            <a:off x="384120" y="158760"/>
            <a:ext cx="8326440" cy="86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76320" y="838080"/>
          <a:ext cx="8781840" cy="2659320"/>
        </p:xfrm>
        <a:graphic>
          <a:graphicData uri="http://schemas.openxmlformats.org/drawingml/2006/table">
            <a:tbl>
              <a:tblPr/>
              <a:tblGrid>
                <a:gridCol w="50472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ышение квалификации и переподготовка кад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с высшим, послевузовским образованием и оказание социальной поддержки обучаю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25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9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социальной и инженерной инфраструктуре в сельских населенных пунктах в рамках проекта «Ауыл-Ел бесігі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48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олнение государственных обязательств по проектам государственно-частного партн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05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22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3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384120" y="195120"/>
            <a:ext cx="8229600" cy="6462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Таблица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Kapkenova</cp:lastModifiedBy>
  <cp:lastPrinted>2019-11-15T04:29:59Z</cp:lastPrinted>
  <dcterms:modified xsi:type="dcterms:W3CDTF">2019-11-15T05:52:32Z</dcterms:modified>
  <cp:revision>7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