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5609-7DDD-4D78-ADED-817186FA5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3729-235E-446A-89BD-3B9C0FDD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4291-934B-4B56-B7DD-107723C37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9AF6-9564-4AB1-8368-6CC1EB8FF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32BED-F540-49F9-8C26-334AA4E91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8417-24B8-4ECF-9C05-0A094608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0B80-FA16-4444-935D-A25A4AA2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4D0A1-6F58-462D-9A45-D9AF80B4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8F8B-9C1E-406E-834E-B2521B7E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71E0-D941-447B-B5CD-0C0B0CC7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CB14-2889-4CE6-9160-BCAB8CFD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EF4A-E6A7-4D8B-8291-4D1BD315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0E76B-D982-4AC3-8EE5-58F14AA8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A5D1-9F49-4C68-A4B4-687F2A26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6544E-6DDE-4B29-A2E6-07FA5741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492BC-F220-4F80-B5BA-3AB22848C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2BEF3-1531-45BF-9E88-64065027C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7560D-8087-49A5-9DAE-182162128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818CC-0225-4663-91D4-B39F3BD7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50F61-90BB-4E61-A18E-C60BF20B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10707-952A-4D31-8581-4ECA5F1A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E6AB9-63F2-4318-87E4-09C9916A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A9D7-E5DB-4DDC-B6F1-F91C1C4A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E873E-7FDB-44C0-B702-7AABA04B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C411E-7F16-478A-A74F-8E3BA40C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D434B-FB30-4BBE-B04E-49A1B088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85A05-1163-4A23-B8FB-51CD56C3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3E4BD-3388-4FF0-AC38-D81F8A41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F6C9C-FE7D-4172-A2CF-859F538B4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715F8-0C9D-484F-9615-03E231C46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55743-9A35-4AC9-B007-E85A053EC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B79FA-DC80-4630-B82A-A3B52B7A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1CA48-7757-4ECE-BCE9-4710CEE6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103D-FAE4-4D70-9525-E89F49A9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472FC-F562-436F-AB54-0E069E7A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6F06B-7BFA-4C33-AC69-1D7A0241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C78F9-8067-4A2E-B33A-9DA71241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52F11-E239-42E8-AD46-717D5160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88FF2-B36A-46E9-B682-E0C27B23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EA3E4-3991-4DAD-9959-D2DF8463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94144-9359-4965-A528-F17F608F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53065-53F3-4632-ADAB-1B65BF035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40268-CF1A-4C46-B61B-E1ACAFE9C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3E48-A14A-4DC7-8451-8F080C19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2E77-BA0F-4CA8-9977-8246E365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1E67-B0BE-4919-B681-59C60B1D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0614-25E1-4AC9-AA5C-F518913F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DC0D-314A-462D-AC7D-6A69C2D9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937F-AA6D-4C39-A4E7-414229509F85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0781-3CA4-487F-B49A-0075F673D984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2460-2BA6-4896-946E-109364846428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9B41-60C0-4525-B440-E272DC783B9A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159984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Trebuchet MS"/>
              </a:rPr>
              <a:t>ГРАЖДАНСКИЙ БЮДЖЕТ </a:t>
            </a:r>
            <a:br>
              <a:rPr sz="5400"/>
            </a:br>
            <a:r>
              <a:rPr b="1" lang="ru-RU" sz="5400" spc="-1" strike="noStrike">
                <a:solidFill>
                  <a:srgbClr val="0000cc"/>
                </a:solidFill>
                <a:latin typeface="Trebuchet MS"/>
              </a:rPr>
              <a:t>на 2019–2021 годы</a:t>
            </a:r>
            <a:br>
              <a:rPr sz="5400"/>
            </a:br>
            <a:r>
              <a:rPr b="1" lang="ru-RU" sz="3200" spc="-1" strike="noStrike">
                <a:solidFill>
                  <a:srgbClr val="0000cc"/>
                </a:solidFill>
                <a:latin typeface="Trebuchet MS"/>
              </a:rPr>
              <a:t>(</a:t>
            </a:r>
            <a:r>
              <a:rPr b="1" lang="ru-RU" sz="3600" spc="-1" strike="noStrike">
                <a:solidFill>
                  <a:srgbClr val="0000cc"/>
                </a:solidFill>
                <a:latin typeface="Trebuchet MS"/>
              </a:rPr>
              <a:t>уточненный на 15 ноября</a:t>
            </a:r>
            <a:r>
              <a:rPr b="1" lang="ru-RU" sz="3200" spc="-1" strike="noStrike">
                <a:solidFill>
                  <a:srgbClr val="0000cc"/>
                </a:solidFill>
                <a:latin typeface="Trebuchet MS"/>
              </a:rPr>
              <a:t>)</a:t>
            </a:r>
            <a:br>
              <a:rPr sz="3600"/>
            </a:b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Рисунок 6" descr="logoМЭРТ.gif"/>
          <p:cNvPicPr/>
          <p:nvPr/>
        </p:nvPicPr>
        <p:blipFill>
          <a:blip r:embed="rId1"/>
          <a:stretch/>
        </p:blipFill>
        <p:spPr>
          <a:xfrm>
            <a:off x="7315200" y="298440"/>
            <a:ext cx="1609560" cy="10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омер слайда 5"/>
          <p:cNvSpPr/>
          <p:nvPr/>
        </p:nvSpPr>
        <p:spPr>
          <a:xfrm>
            <a:off x="4191120" y="6605640"/>
            <a:ext cx="1828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93C7-C552-4B84-BFC0-59BCA953ECB5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448080" y="123840"/>
            <a:ext cx="5315040" cy="110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Trebuchet MS"/>
              </a:rPr>
              <a:t>Расходы на реализацию мероприятий</a:t>
            </a:r>
            <a:br>
              <a:rPr sz="2200"/>
            </a:br>
            <a:r>
              <a:rPr b="1" lang="ru-RU" sz="2200" spc="-1" strike="noStrike">
                <a:solidFill>
                  <a:srgbClr val="0033cc"/>
                </a:solidFill>
                <a:latin typeface="Trebuchet MS"/>
              </a:rPr>
              <a:t> в сфере здравоохранения</a:t>
            </a:r>
            <a:endParaRPr b="1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28600" y="1676520"/>
          <a:ext cx="8763120" cy="3886200"/>
        </p:xfrm>
        <a:graphic>
          <a:graphicData uri="http://schemas.openxmlformats.org/drawingml/2006/table">
            <a:tbl>
              <a:tblPr/>
              <a:tblGrid>
                <a:gridCol w="5114880"/>
                <a:gridCol w="1328760"/>
                <a:gridCol w="1187640"/>
                <a:gridCol w="1131840"/>
              </a:tblGrid>
              <a:tr h="264960">
                <a:tc gridSpan="4"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33cc"/>
                          </a:solidFill>
                          <a:latin typeface="Trebuchet MS"/>
                        </a:rPr>
                        <a:t>млн. тенг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6920">
                <a:tc row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9 год  пл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гноз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твержде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0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сходы на здравоохранение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с аппаратом управле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 81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17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55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храна здоровья нас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6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5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7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ециализированная медицинская помощ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ругие виды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чие услуги в области здравоохра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7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3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9" name="Picture 76" descr=""/>
          <p:cNvPicPr/>
          <p:nvPr/>
        </p:nvPicPr>
        <p:blipFill>
          <a:blip r:embed="rId1"/>
          <a:stretch/>
        </p:blipFill>
        <p:spPr>
          <a:xfrm>
            <a:off x="0" y="0"/>
            <a:ext cx="1530360" cy="13716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7" descr=""/>
          <p:cNvPicPr/>
          <p:nvPr/>
        </p:nvPicPr>
        <p:blipFill>
          <a:blip r:embed="rId2"/>
          <a:stretch/>
        </p:blipFill>
        <p:spPr>
          <a:xfrm>
            <a:off x="1914480" y="28440"/>
            <a:ext cx="1523880" cy="13431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6"/>
          <p:cNvSpPr/>
          <p:nvPr/>
        </p:nvSpPr>
        <p:spPr>
          <a:xfrm>
            <a:off x="762120" y="6324480"/>
            <a:ext cx="7696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мечание: прогноз на 2020-2021 годы – без учета целевых трансфертов из республиканского бюдже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19080" y="838080"/>
          <a:ext cx="8839080" cy="5208840"/>
        </p:xfrm>
        <a:graphic>
          <a:graphicData uri="http://schemas.openxmlformats.org/drawingml/2006/table">
            <a:tbl>
              <a:tblPr/>
              <a:tblGrid>
                <a:gridCol w="561960"/>
                <a:gridCol w="561960"/>
                <a:gridCol w="3479760"/>
                <a:gridCol w="1505160"/>
                <a:gridCol w="1365120"/>
                <a:gridCol w="1365120"/>
              </a:tblGrid>
              <a:tr h="1573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19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0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1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правление здравоохранения обла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 813 93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171 48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555 96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слуги по реализации государственной политики на местном уровне в области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674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715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995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слуги по охране материнства и дет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18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778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952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паганда здорового образа жи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ализация мероприятий по профилактике и борьбе со СПИД в Республике Казахста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38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7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7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еспечение граждан бесплатным или льготным проездом за пределы населенного пункта на леч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7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8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1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формационно-аналитические услуги в области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1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9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0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ентрализованный закуп и хранение вакцин и других медицинских иммунобиологических препаратов для проведения иммунопрофилактики насе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517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37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759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ластные базы спецмедснабж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06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23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11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питальные расходы медицинских организаций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7368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полнительное обеспечение гарантированного объема бесплатной медицинской помощи по решению местных представительных органов облас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240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455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664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ведение медицинской организацией мероприятий, снижающих половое влечение, осуществляемые на основании решения су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готовка специалистов в организациях технического и профессионального, послесреднего 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771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876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541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3" name="Заголовок 2" descr=""/>
          <p:cNvPicPr/>
          <p:nvPr/>
        </p:nvPicPr>
        <p:blipFill>
          <a:blip r:embed="rId1"/>
          <a:stretch/>
        </p:blipFill>
        <p:spPr>
          <a:xfrm>
            <a:off x="384120" y="158760"/>
            <a:ext cx="8326440" cy="86508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1"/>
          <p:cNvSpPr/>
          <p:nvPr/>
        </p:nvSpPr>
        <p:spPr>
          <a:xfrm>
            <a:off x="457200" y="6100920"/>
            <a:ext cx="830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мечание: прогноз на 2020-2021 годы – без учета целевых трансфертов из республиканского бюдже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76320" y="838080"/>
          <a:ext cx="8781840" cy="2659320"/>
        </p:xfrm>
        <a:graphic>
          <a:graphicData uri="http://schemas.openxmlformats.org/drawingml/2006/table">
            <a:tbl>
              <a:tblPr/>
              <a:tblGrid>
                <a:gridCol w="504720"/>
                <a:gridCol w="561960"/>
                <a:gridCol w="3479760"/>
                <a:gridCol w="1505160"/>
                <a:gridCol w="1365120"/>
                <a:gridCol w="1365120"/>
              </a:tblGrid>
              <a:tr h="22860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19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0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1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вышение квалификации и переподготовка кадр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3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8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6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готовка специалистов с высшим, послевузовским образованием и оказание социальной поддержки обучающимс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763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225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794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ализация мероприятий по социальной и инженерной инфраструктуре в сельских населенных пунктах в рамках проекта «Ауыл-Ел бесігі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48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полнение государственных обязательств по проектам государственно-частного партнер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053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022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631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6" name="Заголовок 2" descr=""/>
          <p:cNvPicPr/>
          <p:nvPr/>
        </p:nvPicPr>
        <p:blipFill>
          <a:blip r:embed="rId1"/>
          <a:stretch/>
        </p:blipFill>
        <p:spPr>
          <a:xfrm>
            <a:off x="384120" y="195120"/>
            <a:ext cx="8229600" cy="64620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1"/>
          <p:cNvSpPr/>
          <p:nvPr/>
        </p:nvSpPr>
        <p:spPr>
          <a:xfrm>
            <a:off x="457200" y="6100920"/>
            <a:ext cx="830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мечание: прогноз на 2020-2021 годы – без учета целевых трансфертов из республиканского бюдже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Таблица 3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68680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ьфия Ф. Садыкова</dc:creator>
  <dc:description/>
  <dc:language>en-US</dc:language>
  <cp:lastModifiedBy>Kapkenova</cp:lastModifiedBy>
  <cp:lastPrinted>2019-11-15T04:29:59Z</cp:lastPrinted>
  <dcterms:modified xsi:type="dcterms:W3CDTF">2019-11-15T05:52:32Z</dcterms:modified>
  <cp:revision>7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