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89E-CAEE-49FC-AB7E-F3B012DE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2FEC-1627-4473-BEC8-99A1C343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B492-E315-45FE-92D0-444F88F0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F25-2194-4912-A993-AA47EE73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CB60-2A97-40E9-B5EC-B79FBD76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D3C7-F00F-4BAE-ADBA-7223596B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19CB-4B3B-4F0D-88F9-E9F86A78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90B4-704E-49FA-9028-73A7D6E3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9F38-B3A6-43B1-A746-F203F994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BD20-24A5-4D60-9289-C2DAF779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070C-0AAE-4007-88E3-74E2267D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4DF-DAE0-47D7-A06B-B0DA9441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59DB-BDAA-430D-956E-426D35C9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53D7-816A-45B0-985C-F89E41E8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923F-264A-42E6-A584-65AD49B8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BC72-150C-4B0B-8CC9-57A325E7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8F5F-FC8B-4734-9FC7-CCE85ACF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8200F-2B86-4D1E-B0B3-513303DF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909CF-66D3-4004-A7D1-44395F35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2C1B9-E723-4FD5-9476-07A5A9C0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CBDD3-1AB7-48A0-AC69-8ECB6FF8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BCF4F-5A40-4F3D-868E-E7868BA8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3CE-3D8F-4FA6-BF8D-4F237DFB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FC1A5-EBB2-493B-9C6D-1CB0F2FD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B2125-3BD3-4E2A-9646-9422A292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524E-883F-4CFC-8FEE-64F548A7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575F4-0C1D-4A07-A63B-B03C6E5A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9CAB2-F168-40AA-9AFC-A8979EAB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9B161-013B-4880-8CD0-ABDBA50A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0F4D7-63EE-4644-8AAB-632FBF6D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E81A8-BEA1-4C48-A4F7-6BB48178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FE61D-03DC-427C-864C-63CE989B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1ED72-6EE4-4C5F-8A81-DF048DF6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125-B9B1-45BB-B6BE-2624DF05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7D53B-D82A-4493-940D-5AB887B0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F3805-1D49-4C3B-A26C-E23CDF94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37F3A-CA3B-4375-95E5-FF00035E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03D7C-43B1-4846-AC34-AEEA2215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1BC0F-3EDC-4D32-A1AB-ED122359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46A5E-0C7D-4094-A802-F98EAFD6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7D1BE-F14D-43FD-811A-3B45F6F5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D1C49-AD69-4AFC-A976-2188C92D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E25DF-3B43-4A4C-8441-4BA3F13F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26C-D3A8-4564-9B67-F1621B06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2D4B-FB87-4663-8B17-1891944E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0793-1625-4080-92D0-1FB0936E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1020-7BB0-43DB-A02E-1A2F9B48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4003-1C22-4805-A271-FEBDB5F9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7BBC-0271-433B-BE6A-C330EBE3E2D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782C-8D63-4B88-ABA7-88904AD411B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A3C6-BB1A-4F03-AA02-75B81398D4C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0ADA-5A90-4D96-8BAC-84856D070F6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ГРАЖДАНСКИЙ БЮДЖЕТ 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на 2019–2021 годы</a:t>
            </a:r>
            <a:br>
              <a:rPr sz="5400"/>
            </a:b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0000cc"/>
                </a:solidFill>
                <a:latin typeface="Trebuchet MS"/>
              </a:rPr>
              <a:t>уточненный на 31 декабря</a:t>
            </a: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)</a:t>
            </a:r>
            <a:br>
              <a:rPr sz="3600"/>
            </a:b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Рисунок 6" descr="logoМЭРТ.gif"/>
          <p:cNvPicPr/>
          <p:nvPr/>
        </p:nvPicPr>
        <p:blipFill>
          <a:blip r:embed="rId1"/>
          <a:stretch/>
        </p:blipFill>
        <p:spPr>
          <a:xfrm>
            <a:off x="7315200" y="298440"/>
            <a:ext cx="160956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4191120" y="6605640"/>
            <a:ext cx="182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3CDF-EAB6-4303-B5E8-D7E609158B1F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48080" y="123840"/>
            <a:ext cx="531504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Расходы на реализацию мероприятий</a:t>
            </a:r>
            <a:br>
              <a:rPr sz="2200"/>
            </a:b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 в сфере здравоохранения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676520"/>
          <a:ext cx="8763120" cy="3886200"/>
        </p:xfrm>
        <a:graphic>
          <a:graphicData uri="http://schemas.openxmlformats.org/drawingml/2006/table">
            <a:tbl>
              <a:tblPr/>
              <a:tblGrid>
                <a:gridCol w="5114880"/>
                <a:gridCol w="1328760"/>
                <a:gridCol w="1187640"/>
                <a:gridCol w="1131840"/>
              </a:tblGrid>
              <a:tr h="264960">
                <a:tc gridSpan="4"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млн. тенг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 год 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ноз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ходы на здравоохранение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 аппаратом управл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66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рана здоровья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ециализированная медицинск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виды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услуги в области здравоохра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8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76" descr=""/>
          <p:cNvPicPr/>
          <p:nvPr/>
        </p:nvPicPr>
        <p:blipFill>
          <a:blip r:embed="rId1"/>
          <a:stretch/>
        </p:blipFill>
        <p:spPr>
          <a:xfrm>
            <a:off x="0" y="0"/>
            <a:ext cx="153036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7" descr=""/>
          <p:cNvPicPr/>
          <p:nvPr/>
        </p:nvPicPr>
        <p:blipFill>
          <a:blip r:embed="rId2"/>
          <a:stretch/>
        </p:blipFill>
        <p:spPr>
          <a:xfrm>
            <a:off x="1914480" y="28440"/>
            <a:ext cx="1523880" cy="13431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6"/>
          <p:cNvSpPr/>
          <p:nvPr/>
        </p:nvSpPr>
        <p:spPr>
          <a:xfrm>
            <a:off x="762120" y="6324480"/>
            <a:ext cx="769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9080" y="838080"/>
          <a:ext cx="8839080" cy="5208840"/>
        </p:xfrm>
        <a:graphic>
          <a:graphicData uri="http://schemas.openxmlformats.org/drawingml/2006/table">
            <a:tbl>
              <a:tblPr/>
              <a:tblGrid>
                <a:gridCol w="561960"/>
                <a:gridCol w="561960"/>
                <a:gridCol w="3479760"/>
                <a:gridCol w="1505160"/>
                <a:gridCol w="1365120"/>
                <a:gridCol w="1365120"/>
              </a:tblGrid>
              <a:tr h="1573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здравоохранения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669 12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 4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 96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реализации государственной политики на местном уровне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99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15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95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охране материнства и дет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31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7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5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аганда здорового образа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профилактике и борьбе со СПИД в Республике Казах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38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граждан бесплатным или льготным проездом за пределы населенного пункта на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7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о-аналитические услуги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9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нтрализованный закуп и хранение вакцин и других медицинских иммунобиологических препаратов для проведения иммунопрофилактики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497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37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59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астные базы спецмедснабж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8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2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11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е расходы медицинских организаций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11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полнительное обеспечение гарантированного объема бесплатной медицинской помощи по решению местных представительных органов обла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9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455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664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медицинской организацией мероприятий, снижающих половое влечение, осуществляемые на основании решения с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в организациях технического и профессионального, послесредне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77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7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54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Заголовок 2" descr=""/>
          <p:cNvPicPr/>
          <p:nvPr/>
        </p:nvPicPr>
        <p:blipFill>
          <a:blip r:embed="rId1"/>
          <a:stretch/>
        </p:blipFill>
        <p:spPr>
          <a:xfrm>
            <a:off x="384120" y="158760"/>
            <a:ext cx="8326440" cy="865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76320" y="838080"/>
          <a:ext cx="8781840" cy="2659320"/>
        </p:xfrm>
        <a:graphic>
          <a:graphicData uri="http://schemas.openxmlformats.org/drawingml/2006/table">
            <a:tbl>
              <a:tblPr/>
              <a:tblGrid>
                <a:gridCol w="50472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ышение квалификации и переподготовка кад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6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с высшим, послевузовским образованием и оказание социальной поддержки обучающим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25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94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социальной и инженерной инфраструктуре в сельских населенных пунктах в рамках проекта «Ауыл-Ел бесігі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48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полнение государственных обязательств по проектам государственно-частного партне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05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22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3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384120" y="195120"/>
            <a:ext cx="8229600" cy="6462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Таблица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6868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Kapkenova</cp:lastModifiedBy>
  <cp:lastPrinted>2019-12-12T09:26:00Z</cp:lastPrinted>
  <dcterms:modified xsi:type="dcterms:W3CDTF">2019-12-12T09:26:08Z</dcterms:modified>
  <cp:revision>7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