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DC8-6AC7-4067-AB85-F87CF4E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E3D-33CD-4254-8A14-50D6C124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C7F-33CE-4385-9267-1DD299BD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2ED-2DDB-408D-B92E-3AF4315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10A-0104-49B6-9890-5FD3BCCD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9BE-2F89-4E8F-B05B-DB1D110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F647-C16A-45FB-966C-36C6BD8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023B-A0B8-408C-92FD-9EE472CC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8353-D8B4-4CB1-9606-2B8B839B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F69B-874F-41D5-B6AE-C12F4498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FBBC-34AD-4179-A531-D2D7D98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15C-BC6C-4291-8D0E-0F8245D9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BAC5-E2A7-46B9-96C3-DDD9C30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7940-1FBA-47D7-A245-4A1F852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4FA1-841C-4DF8-AFD2-0FACC47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BF5D-2878-4BF8-AE01-21D3A98A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BE0B-0DFB-41CA-96DB-38F883C8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2332-8D39-4B7D-8DEA-EB197F75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F919-F0B5-4CBE-AAFB-5EFB74B2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B7F6-980D-45AE-8C30-51714148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4154-485E-456E-8084-0DBF31DE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58ED-CADC-4B1D-AC18-96630D6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202-39F9-4F67-9BFB-E95A355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1728-BEEA-4DEF-A7FE-883C036D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F118-31C4-42F4-9059-66D8A6E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1554-C721-40D8-8E79-D1279F0D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789A-B858-4A45-9C9D-90C038B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E351-A209-42B1-83BA-60A81EAB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0DC8-73AE-4961-9E6C-81CE0016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B1CA-4783-437F-BF2F-A2E4AE01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AFFD-3520-40D1-918A-7AC16B7D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FB4F-045B-4541-BF62-7FECD0F5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C19B-6B09-4ABB-B6BA-89E4952D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CFC-BAEB-4981-A127-4384B912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81E1-77B6-494B-AF46-A6487704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F746-A07B-43C6-BFBC-0A4B58C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37BB-47C1-43DE-84A5-2DEF4C7B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B71A-85BD-419D-AE6D-D413386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995B-0CA7-4151-95E8-545F51F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0C29-9688-4559-B722-F55C700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1A88-5CF8-4B75-A365-B873468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E4A0-321D-4E22-A24C-7481C28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F019-32AE-4F9D-8F62-B941098A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8B0-F794-42CB-9ACF-D58A875A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928-285A-47F4-A871-A643600A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E37-FA52-45E0-81C4-723040A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5F9-9565-4735-B0C7-77B010C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DAC-2FEA-43DC-9B33-C021122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97B5-B702-4488-AAA0-1C53430AD11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A913-2736-4506-8237-0E363942F92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D093-D857-4FBA-A6E1-3BD1F26A146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5D47-1C6C-455E-9CE7-A382929BE88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31 дека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F6A9-3A4B-4D47-99F4-02263CDAB38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 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9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3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9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11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9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2-12T09:26:00Z</cp:lastPrinted>
  <dcterms:modified xsi:type="dcterms:W3CDTF">2019-12-12T09:26:08Z</dcterms:modified>
  <cp:revision>7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