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D38-F1DC-4762-AB2D-18A1F8DB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BBD-0B4D-431F-B525-ECF83875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376-90EC-49BC-90A5-6FD51188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30F2-6BE8-4E21-84C7-8368BB06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6012-8994-465A-96CB-C0F66BF68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2FC4-41EF-4936-85F1-5806C82E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2B56-4356-4EB7-9E06-8626CA8A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60EE-205F-4F3B-904E-C093123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F7A8-9946-4E31-B275-2C059D0C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79EB-88DC-4C63-AA46-0675FAE6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AC48-5019-4F91-8F9A-7F8284C0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DD2-0202-4B0D-8B17-3D4EBE08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C1CF-0BE4-42BA-946E-9F8DE7C4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15BE-E598-46ED-8BB4-AD020800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0F56-5EED-4F01-B82C-D69B862D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FEA0-6A44-4CBC-A12A-4C353B53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80B3-C32F-4000-B2A9-F0E74C7E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CA52E-F585-4A57-B25B-D2015CCB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F6AF-7FED-4A4D-9298-C1B8AC7B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82315-9216-4B6C-9532-F0C48D49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03E40-900C-42F2-AC6A-0AF23087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47F1F-6FDF-44DA-8262-FE407CC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624-B6D5-407D-8B90-3946A4EE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4E1C1-19AD-4D3F-B8AA-0F52BB9F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97EAC-9DD4-4A3E-BAF3-4E1102C8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DA5B2-546E-42FF-AC99-D7A609D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0596-EFCA-4CD0-B824-317E2386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E7F1-4651-497E-BD1F-DB65CA03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5A059-C33A-45AA-B406-82A84B833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F4C6-CF8E-4E9E-B988-36B35007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87A4D-6AA8-49FF-96B5-ED6F19F8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6A258-B8F0-471C-BAD6-9352E506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C0DD-8570-4439-AB02-410D2C57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E66-EF2F-4BDB-9EA6-0FC19583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01D90-6A13-4B58-8C70-3807D959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B160A-050C-4F33-AAC2-2A5516C6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41AC2-F8FA-4064-8531-FE52DDF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63206-BF71-4FCE-B735-9BD696DD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7092-4E3A-4A1B-B2AD-407E1EF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86670-C753-4EEF-B4B9-D20A59D8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0721-021A-4C10-96EA-B67B26E9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F3F32-4680-43C7-962D-B78C3CB5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56DF3-6456-4A7F-ADE5-2CCC54100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BAF-298A-4D3D-8D9E-7815691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F42-6A83-46B5-AB84-948F71E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DB1-493E-4A2A-82F1-8CD58C64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DEB3-8BF1-4DAA-8724-5D967E7D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3133-F449-45CD-B84A-08B105A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CBC7-8679-4A20-9F36-AC2F46C91A9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6A4C-D41E-4ED1-9647-6670F3AF9958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4A2D-C66C-4CD9-AAB1-D30D760ECE6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2961-A6B9-4002-9A19-634D1A5ACC45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1599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ГРАЖДАНСКИЙ БЮДЖЕТ </a:t>
            </a:r>
            <a:br>
              <a:rPr sz="5400"/>
            </a:br>
            <a:r>
              <a:rPr b="1" lang="ru-RU" sz="5400" spc="-1" strike="noStrike">
                <a:solidFill>
                  <a:srgbClr val="0000cc"/>
                </a:solidFill>
                <a:latin typeface="Trebuchet MS"/>
              </a:rPr>
              <a:t>на 2020–2022 годы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Рисунок 6" descr="logoМЭРТ.gif"/>
          <p:cNvPicPr/>
          <p:nvPr/>
        </p:nvPicPr>
        <p:blipFill>
          <a:blip r:embed="rId1"/>
          <a:stretch/>
        </p:blipFill>
        <p:spPr>
          <a:xfrm>
            <a:off x="7315200" y="298440"/>
            <a:ext cx="1609560" cy="10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5"/>
          <p:cNvSpPr/>
          <p:nvPr/>
        </p:nvSpPr>
        <p:spPr>
          <a:xfrm>
            <a:off x="4191120" y="6605640"/>
            <a:ext cx="18288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BF0B-9B57-481D-81A6-CF7FDC298220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48080" y="123840"/>
            <a:ext cx="5315040" cy="11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Расходы на реализацию мероприятий</a:t>
            </a:r>
            <a:br>
              <a:rPr sz="2200"/>
            </a:br>
            <a:r>
              <a:rPr b="1" lang="ru-RU" sz="2200" spc="-1" strike="noStrike">
                <a:solidFill>
                  <a:srgbClr val="0033cc"/>
                </a:solidFill>
                <a:latin typeface="Trebuchet MS"/>
              </a:rPr>
              <a:t> в сфере здравоохранения</a:t>
            </a:r>
            <a:endParaRPr b="1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28600" y="1676520"/>
          <a:ext cx="8763120" cy="3886200"/>
        </p:xfrm>
        <a:graphic>
          <a:graphicData uri="http://schemas.openxmlformats.org/drawingml/2006/table">
            <a:tbl>
              <a:tblPr/>
              <a:tblGrid>
                <a:gridCol w="5114880"/>
                <a:gridCol w="1328760"/>
                <a:gridCol w="1187640"/>
                <a:gridCol w="1131840"/>
              </a:tblGrid>
              <a:tr h="264960">
                <a:tc gridSpan="4"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33cc"/>
                          </a:solidFill>
                          <a:latin typeface="Trebuchet MS"/>
                        </a:rPr>
                        <a:t>млн. тенг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920">
                <a:tc row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0 год  пл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гноз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твержде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ebfa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сходы на здравоохранение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с аппаратом управл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4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4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 том числе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храна здоровья насе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ециализированная медицинская помощ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ругие виды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чие услуги в области здравоохра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0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9" name="Picture 76" descr=""/>
          <p:cNvPicPr/>
          <p:nvPr/>
        </p:nvPicPr>
        <p:blipFill>
          <a:blip r:embed="rId1"/>
          <a:stretch/>
        </p:blipFill>
        <p:spPr>
          <a:xfrm>
            <a:off x="0" y="0"/>
            <a:ext cx="153036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7" descr=""/>
          <p:cNvPicPr/>
          <p:nvPr/>
        </p:nvPicPr>
        <p:blipFill>
          <a:blip r:embed="rId2"/>
          <a:stretch/>
        </p:blipFill>
        <p:spPr>
          <a:xfrm>
            <a:off x="1914480" y="28440"/>
            <a:ext cx="1523880" cy="134316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6"/>
          <p:cNvSpPr/>
          <p:nvPr/>
        </p:nvSpPr>
        <p:spPr>
          <a:xfrm>
            <a:off x="762120" y="6324480"/>
            <a:ext cx="7696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19080" y="838080"/>
          <a:ext cx="8839080" cy="5280120"/>
        </p:xfrm>
        <a:graphic>
          <a:graphicData uri="http://schemas.openxmlformats.org/drawingml/2006/table">
            <a:tbl>
              <a:tblPr/>
              <a:tblGrid>
                <a:gridCol w="56196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правление здравоохранения обла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440 88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001 36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148 86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реализации государственной политики на местном уровне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3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00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22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слуги по охране материнства и дет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72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5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40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паганда здорового образа жиз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68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мероприятий по профилактике и борьбе со СПИД в Республике Казахст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8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еспечение граждан бесплатным или льготным проездом за пределы населенного пункта на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4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4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8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формационно-аналитические услуги в области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2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1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ентрализованный закуп и хранение вакцин и других медицинских иммунобиологических препаратов для проведения иммунопрофилактики насе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903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81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ластные базы спецмедснабж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23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3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84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питальные расходы медицинских организаций здравоохра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30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243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404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полнительное обеспечение гарантированного объема бесплатной медицинской помощи по решению местных представительных органов област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754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57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798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медицинской организацией мероприятий, снижающих половое влечение, осуществляемые на основании решения су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в организациях технического и профессионального, послесредне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941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9536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60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Заголовок 2" descr=""/>
          <p:cNvPicPr/>
          <p:nvPr/>
        </p:nvPicPr>
        <p:blipFill>
          <a:blip r:embed="rId1"/>
          <a:stretch/>
        </p:blipFill>
        <p:spPr>
          <a:xfrm>
            <a:off x="384120" y="158760"/>
            <a:ext cx="8326440" cy="86508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1-2022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76320" y="838080"/>
          <a:ext cx="8781840" cy="2333880"/>
        </p:xfrm>
        <a:graphic>
          <a:graphicData uri="http://schemas.openxmlformats.org/drawingml/2006/table">
            <a:tbl>
              <a:tblPr/>
              <a:tblGrid>
                <a:gridCol w="504720"/>
                <a:gridCol w="561960"/>
                <a:gridCol w="3479760"/>
                <a:gridCol w="1505160"/>
                <a:gridCol w="1365120"/>
                <a:gridCol w="1365120"/>
              </a:tblGrid>
              <a:tr h="228600"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0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1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022 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мещение лизинговых платежей по санитарному транспорту, приобретенных на условиях финансового лиз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8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ециалистов с высшим, послевузовским образованием и оказание социальной поддержки обучающим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41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1938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770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полнение государственных обязательств по проектам государственно-частного партнер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8026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411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56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384120" y="195120"/>
            <a:ext cx="8229600" cy="64620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1"/>
          <p:cNvSpPr/>
          <p:nvPr/>
        </p:nvSpPr>
        <p:spPr>
          <a:xfrm>
            <a:off x="457200" y="6100920"/>
            <a:ext cx="830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имечание: прогноз на 2020-2021 годы – без учета целевых трансфертов из республиканского бюджет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Таблица 3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6868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ьфия Ф. Садыкова</dc:creator>
  <dc:description/>
  <dc:language>en-US</dc:language>
  <cp:lastModifiedBy>Kapkenova</cp:lastModifiedBy>
  <cp:lastPrinted>2020-01-10T05:12:58Z</cp:lastPrinted>
  <dcterms:modified xsi:type="dcterms:W3CDTF">2020-01-10T05:13:04Z</dcterms:modified>
  <cp:revision>7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