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1D96-AF9B-4C80-A9B7-1614255C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98D-74ED-4777-87F9-33C87570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F763-FF38-4CC1-9FB8-0617EB2E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650-3B04-4A9E-8992-BF1595AA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34BF-D845-48F8-88EC-AA2D9CAC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9AD7-0B0C-421A-9F85-FA5C33DA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0893-1F06-4FBD-8F3E-33CD3F36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B779-3BCB-45C8-AAE4-AD377B87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5435-0518-4F4E-8B1D-4B2E15BB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4EA4-5C30-4009-A834-4643C16D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6244-4274-4186-A2C2-EA75ED0C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3CB-4773-4406-A038-FCF08363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C738-4A67-4419-B507-93847FAF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43E8-F8A6-4AE1-AAB1-47B41B5F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59C8-1E35-4554-B17F-E1E8BCF8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7AD6-FB0B-458F-BBF4-284DF580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9554-C15B-4FFF-818F-6C04D429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A1A29-5631-45BC-A654-0D56D20A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C68F3-3C81-4583-B2A1-220A7F75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3311C-B076-4331-BC06-9B0C2BAE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04020-CDD6-47D7-B86D-6F7AC9D6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77ECB-8398-434A-9BCC-F3A1A20D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5F8-003E-4BC3-9306-59074001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4ACBE-BF91-4ADE-A91D-B5F71183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3F1AF-C865-4F71-84AD-D7036369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33B62-E56C-4F80-B188-6A63F21C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13E5C-FB91-41B3-B314-B431799E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7E157-5294-44ED-835C-DC32CA8F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1121A-FEFD-4866-8319-E1B06E27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EEA39-1F7A-4CEE-B116-2B5BB96C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124A9-DB38-4649-84F2-881C621F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7BCE7-C162-445C-89F4-AF27DDF2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9DF19-C443-41B9-8576-16E3053C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089-FD4D-4401-9F97-998B775F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C78AC-DC44-4B77-9F70-F2055A38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B1C3C-1ABC-406B-8E0C-2B82A0E8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65146-AF71-4A68-A9DD-6809936A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94E58-B171-4349-86F0-4581AE90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B598F-B46A-47B3-98B6-509EF8BF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35DF0-A9C7-41CF-98FD-8ECFABEB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E1927-2A99-47EB-A1BC-1DEBC688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20251-178C-41E7-8CEA-EFE4EAC4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668F4-0666-48B2-A6D0-3F115330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BED-67BC-481B-AC47-9E6F733F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829-C403-4E4F-BB5C-743CEAEF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BB9-A735-4F68-B3CA-CA8727D9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34C-CB5D-4236-AFE0-B58B2220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9E9-BF6A-4957-9E04-C4BA9D0C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3F25-0871-4E17-A7A0-554E08E7AD0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7E9E-5549-488A-B8C2-9ADAA8C3E80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DCF4-8EC0-4992-A304-8C4679D7967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F17A-517F-4978-B5CA-B9B7669831C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20–2022 годы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535E-3A9D-4162-936B-91C51228490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4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1-2022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8012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440 8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001 36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148 8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43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00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22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7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4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86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88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4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8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8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903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18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3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84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830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243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40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754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5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798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94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95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60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1-2022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33388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мещение лизинговых платежей по санитарному транспорту, приобретенных на условиях финансового лиз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58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4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93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7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80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41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56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20-01-10T05:12:58Z</cp:lastPrinted>
  <dcterms:modified xsi:type="dcterms:W3CDTF">2020-01-10T05:13:04Z</dcterms:modified>
  <cp:revision>7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