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667F-2274-4CF3-B737-7D7CFC0E7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3C8A-CE3D-480F-A0E8-52D666069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8491-A3F4-43CE-99F4-A10C9A2CE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D1BC-1E72-4EFB-A022-7A693B8D3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1F1AA-AEA6-4DC8-81B1-EBA73CC79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35F23-7AFD-4879-9404-EF193EB6E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E0E17-10C7-40CB-9077-1DE049608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2CE55-3D6A-4131-B4DA-895777FE6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EC152-FE36-499D-A130-2E015F27F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D05FF-C8F9-44D4-BE24-0A5125D0E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A6971-BB78-40E2-945C-2608A045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349B-BE9A-429E-ABB6-F6D578323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860C8-A542-484B-917C-F9300616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93299-26FA-4FFB-846C-A5429FE8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0D0D1-F610-4B56-BDA6-91C90DC53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9B873-E727-4A9B-ADC7-4EF171CD8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C49FD-F302-4EEC-9CF5-B873C7156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0B221-634B-4798-ADC3-8950F6AFC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ECD85-0C41-4356-8B50-EFD749462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46553-6965-433C-B0FB-DD7D16EA3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9DBB5-63E0-483D-9D11-A1CF7BC72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BB5E4-DBBF-4A8A-AB97-19A424505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CD7A-9103-42F9-A783-68A76F39F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6FE4E-147E-4C81-A30C-C1BDCCE2A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86EB6-73F0-4438-921B-042E44FC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2D427-50B4-400D-9ACC-B47BA11F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75A8A-BB57-477B-8348-06E34D66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B69C0-9638-46F0-A4F6-62DCCBD70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9D366-DB1F-4667-9B76-CA53E79A9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DA4F4-FD98-477F-9AB3-A2C7253F4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FFB85-A2F9-4E0E-8EEB-CB793B476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9A5FA-5425-4C15-A7F9-26B1ADD77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96AD2-D96F-4CB6-A9CB-DEBC17A86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CD12-5ADE-4F0E-A72D-13D0268E0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21883-A352-4C8C-9005-9D7B37516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EB8B6-C80B-46D4-B790-C9BA4DDC1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19B1F-B255-474C-A32A-853FFC6FA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0D750-C46D-46D7-AFEA-609A0ACE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08166-2852-4D08-B7BA-FD0CCE38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FC3C6-7E53-471F-A134-BCA5FD54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718B0-8E4B-4029-9A8B-B06DD69EC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2AF42-55A3-41C4-8BC1-677C61ECC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7D849-3F1E-4B88-A248-49B8C4F9C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6F10-A7CC-47D1-B257-36690EA30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B6BD-204B-42EF-B4F4-4FC333D2B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3BD6-C744-42F4-9C97-FB31B73F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A4BD-6256-4B98-9561-EDE8F548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5A27-F90A-4378-87FD-A8D702B2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CF24F-AF81-4D43-9623-C76422E2C88F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BCBE2-604D-4BB9-A18C-D3EF20C5293F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C866B-CAFE-4FAB-8319-9852191A8278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A456E-D338-46DA-AE6E-D802DA35E3C1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1599840"/>
            <a:ext cx="8686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Trebuchet MS"/>
              </a:rPr>
              <a:t>ГРАЖДАНСКИЙ БЮДЖЕТ </a:t>
            </a:r>
            <a:br>
              <a:rPr sz="5400"/>
            </a:br>
            <a:r>
              <a:rPr b="1" lang="ru-RU" sz="5400" spc="-1" strike="noStrike">
                <a:solidFill>
                  <a:srgbClr val="0000cc"/>
                </a:solidFill>
                <a:latin typeface="Trebuchet MS"/>
              </a:rPr>
              <a:t>на 2020–2022 годы</a:t>
            </a:r>
            <a:br>
              <a:rPr sz="5400"/>
            </a:br>
            <a:endParaRPr b="1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Рисунок 6" descr="logoМЭРТ.gif"/>
          <p:cNvPicPr/>
          <p:nvPr/>
        </p:nvPicPr>
        <p:blipFill>
          <a:blip r:embed="rId1"/>
          <a:stretch/>
        </p:blipFill>
        <p:spPr>
          <a:xfrm>
            <a:off x="7315200" y="298440"/>
            <a:ext cx="1609560" cy="106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Номер слайда 5"/>
          <p:cNvSpPr/>
          <p:nvPr/>
        </p:nvSpPr>
        <p:spPr>
          <a:xfrm>
            <a:off x="4191120" y="6605640"/>
            <a:ext cx="1828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033C3-83E6-491A-A1BC-13BB33AD0C49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448080" y="123840"/>
            <a:ext cx="5315040" cy="110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cc"/>
                </a:solidFill>
                <a:latin typeface="Trebuchet MS"/>
              </a:rPr>
              <a:t>Расходы на реализацию мероприятий</a:t>
            </a:r>
            <a:br>
              <a:rPr sz="2200"/>
            </a:br>
            <a:r>
              <a:rPr b="1" lang="ru-RU" sz="2200" spc="-1" strike="noStrike">
                <a:solidFill>
                  <a:srgbClr val="0033cc"/>
                </a:solidFill>
                <a:latin typeface="Trebuchet MS"/>
              </a:rPr>
              <a:t> в сфере здравоохранения</a:t>
            </a:r>
            <a:endParaRPr b="1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228600" y="1676520"/>
          <a:ext cx="8763120" cy="3886200"/>
        </p:xfrm>
        <a:graphic>
          <a:graphicData uri="http://schemas.openxmlformats.org/drawingml/2006/table">
            <a:tbl>
              <a:tblPr/>
              <a:tblGrid>
                <a:gridCol w="5114880"/>
                <a:gridCol w="1328760"/>
                <a:gridCol w="1187640"/>
                <a:gridCol w="1131840"/>
              </a:tblGrid>
              <a:tr h="264960">
                <a:tc gridSpan="4"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33cc"/>
                          </a:solidFill>
                          <a:latin typeface="Trebuchet MS"/>
                        </a:rPr>
                        <a:t>млн. тенг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6920">
                <a:tc row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0 год  пла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гноз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твержде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1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2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</a:tr>
              <a:tr h="504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асходы на здравоохранение -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с аппаратом управле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4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4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храна здоровья насе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4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4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81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пециализированная медицинская помощ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8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ругие виды медицинской помощ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чие услуги в области здравоохра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74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06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86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4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8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9" name="Picture 76" descr=""/>
          <p:cNvPicPr/>
          <p:nvPr/>
        </p:nvPicPr>
        <p:blipFill>
          <a:blip r:embed="rId1"/>
          <a:stretch/>
        </p:blipFill>
        <p:spPr>
          <a:xfrm>
            <a:off x="0" y="0"/>
            <a:ext cx="1530360" cy="13716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7" descr=""/>
          <p:cNvPicPr/>
          <p:nvPr/>
        </p:nvPicPr>
        <p:blipFill>
          <a:blip r:embed="rId2"/>
          <a:stretch/>
        </p:blipFill>
        <p:spPr>
          <a:xfrm>
            <a:off x="1914480" y="28440"/>
            <a:ext cx="1523880" cy="134316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6"/>
          <p:cNvSpPr/>
          <p:nvPr/>
        </p:nvSpPr>
        <p:spPr>
          <a:xfrm>
            <a:off x="762120" y="6324480"/>
            <a:ext cx="7696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имечание: прогноз на 2021-2022 годы – без учета целевых трансфертов из республиканского бюджет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19080" y="838080"/>
          <a:ext cx="8839080" cy="5280120"/>
        </p:xfrm>
        <a:graphic>
          <a:graphicData uri="http://schemas.openxmlformats.org/drawingml/2006/table">
            <a:tbl>
              <a:tblPr/>
              <a:tblGrid>
                <a:gridCol w="561960"/>
                <a:gridCol w="561960"/>
                <a:gridCol w="3479760"/>
                <a:gridCol w="1505160"/>
                <a:gridCol w="1365120"/>
                <a:gridCol w="1365120"/>
              </a:tblGrid>
              <a:tr h="22860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20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21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22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24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правление здравоохранения обла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440 88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001 36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148 86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слуги по реализации государственной политики на местном уровне в области здравоохра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243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500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822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слуги по охране материнства и детст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672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59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340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паганда здорового образа жиз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86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ализация мероприятий по профилактике и борьбе со СПИД в Республике Казахста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688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2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6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еспечение граждан бесплатным или льготным проездом за пределы населенного пункта на леч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34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4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8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нформационно-аналитические услуги в области здравоохра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68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92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01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Централизованный закуп и хранение вакцин и других медицинских иммунобиологических препаратов для проведения иммунопрофилактики насел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8903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2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181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ластные базы спецмедснабж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23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34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84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питальные расходы медицинских организаций здравоохра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830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7243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2404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полнительное обеспечение гарантированного объема бесплатной медицинской помощи по решению местных представительных органов облас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754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4257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7798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ведение медицинской организацией мероприятий, снижающих половое влечение, осуществляемые на основании решения су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дготовка специалистов в организациях технического и профессионального, послесреднего образ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941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953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060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3" name="Заголовок 2" descr=""/>
          <p:cNvPicPr/>
          <p:nvPr/>
        </p:nvPicPr>
        <p:blipFill>
          <a:blip r:embed="rId1"/>
          <a:stretch/>
        </p:blipFill>
        <p:spPr>
          <a:xfrm>
            <a:off x="384120" y="158760"/>
            <a:ext cx="8326440" cy="86508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1"/>
          <p:cNvSpPr/>
          <p:nvPr/>
        </p:nvSpPr>
        <p:spPr>
          <a:xfrm>
            <a:off x="457200" y="6100920"/>
            <a:ext cx="830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имечание: прогноз на 2021-2022 годы – без учета целевых трансфертов из республиканского бюджет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76320" y="838080"/>
          <a:ext cx="8781840" cy="2333880"/>
        </p:xfrm>
        <a:graphic>
          <a:graphicData uri="http://schemas.openxmlformats.org/drawingml/2006/table">
            <a:tbl>
              <a:tblPr/>
              <a:tblGrid>
                <a:gridCol w="504720"/>
                <a:gridCol w="561960"/>
                <a:gridCol w="3479760"/>
                <a:gridCol w="1505160"/>
                <a:gridCol w="1365120"/>
                <a:gridCol w="1365120"/>
              </a:tblGrid>
              <a:tr h="22860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20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21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22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озмещение лизинговых платежей по санитарному транспорту, приобретенных на условиях финансового лизинг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958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дготовка специалистов с высшим, послевузовским образованием и оказание социальной поддержки обучающимс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541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193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770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ыполнение государственных обязательств по проектам государственно-частного партнерст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9802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411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56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6" name="Заголовок 2" descr=""/>
          <p:cNvPicPr/>
          <p:nvPr/>
        </p:nvPicPr>
        <p:blipFill>
          <a:blip r:embed="rId1"/>
          <a:stretch/>
        </p:blipFill>
        <p:spPr>
          <a:xfrm>
            <a:off x="384120" y="195120"/>
            <a:ext cx="8229600" cy="646200"/>
          </a:xfrm>
          <a:prstGeom prst="rect">
            <a:avLst/>
          </a:prstGeom>
          <a:ln w="0">
            <a:noFill/>
          </a:ln>
        </p:spPr>
      </p:pic>
      <p:sp>
        <p:nvSpPr>
          <p:cNvPr id="227" name="Прямоугольник 1"/>
          <p:cNvSpPr/>
          <p:nvPr/>
        </p:nvSpPr>
        <p:spPr>
          <a:xfrm>
            <a:off x="457200" y="6100920"/>
            <a:ext cx="830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имечание: прогноз на 2020-2021 годы – без учета целевых трансфертов из республиканского бюджет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Таблица 3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8686800" cy="64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ьфия Ф. Садыкова</dc:creator>
  <dc:description/>
  <dc:language>en-US</dc:language>
  <cp:lastModifiedBy>Kapkenova</cp:lastModifiedBy>
  <cp:lastPrinted>2020-01-10T05:12:58Z</cp:lastPrinted>
  <dcterms:modified xsi:type="dcterms:W3CDTF">2020-01-10T05:13:04Z</dcterms:modified>
  <cp:revision>7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